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697C-3BC1-42AC-A6A3-48F434CE86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8675-AFC0-452F-AF7A-3E45EF18A0FB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A99-2A8D-4811-A31F-BF12F1AB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A16-B880-44E8-A353-C761164A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7E7-0233-45E4-9DF5-33960BE3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D06-C07F-43B5-901F-2B1220A5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02AC-2472-4564-8B02-5A918BCF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D9FC-8416-4376-BEF4-BA4635F8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6E62-51AB-41FD-9BEC-12EA057C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ACF6-D539-4B8E-A081-C2556847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CD82-71EF-4753-A157-E4234F55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A13F-8928-4F86-8440-00C4FD0B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0305-B044-4486-A610-C1697179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688-45E4-41AB-9D1D-F4F849A0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0C2E-6C22-448E-B2F2-37AC4275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CB6F-833E-4301-A24F-BF9129BA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1655-DA95-4144-9DC3-9D3ACD42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110A-0EB7-491D-9735-5F6039F1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C0DD-6AAD-40A8-8F28-194E5808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7F3-0F21-4654-8E1F-537D14B5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786-BDC8-47EB-AE10-E870C8AB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CC1-0096-4827-ABA9-1FCD21BA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2C2-D2A0-41BC-B322-7C94C546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369-362D-4238-942B-3C4077A3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7D1-B47D-45C4-AE29-C184EB3F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2BB-CF29-4B48-95DB-C2D5FAF3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5A0A-1435-4BE8-A442-DB4D3C9BA6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2920-4398-41E6-B321-2C045A1BF7CF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3/Shorter_1980s_bicycl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Урок 4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Безопасность движения на велосипедах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гналы велосипед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3840" y="1660320"/>
            <a:ext cx="8929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елосипедист, предполагающий осуществить поворот или остановиться, должен подавать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определенные сигналы: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у левого поворота соответствует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ытянутая в сторону левая рука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у правого поворота соответствует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ытянутая в сторону правая рука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 или согнутая в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локте вверх  левая рука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8" name="Рисунок 4" descr="http://www.s-medved.com/user/image/pubs/ci001.gif"/>
          <p:cNvPicPr/>
          <p:nvPr/>
        </p:nvPicPr>
        <p:blipFill>
          <a:blip r:embed="rId1"/>
          <a:srcRect l="0" t="0" r="67210" b="0"/>
          <a:stretch/>
        </p:blipFill>
        <p:spPr>
          <a:xfrm>
            <a:off x="7215120" y="271476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http://www.s-medved.com/user/image/pubs/ci001.gif"/>
          <p:cNvPicPr/>
          <p:nvPr/>
        </p:nvPicPr>
        <p:blipFill>
          <a:blip r:embed="rId2"/>
          <a:srcRect l="67202" t="0" r="0" b="0"/>
          <a:stretch/>
        </p:blipFill>
        <p:spPr>
          <a:xfrm>
            <a:off x="7072200" y="414324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4" descr="http://www.s-medved.com/user/image/pubs/ci001.gif"/>
          <p:cNvPicPr/>
          <p:nvPr/>
        </p:nvPicPr>
        <p:blipFill>
          <a:blip r:embed="rId3"/>
          <a:srcRect l="32814" t="0" r="39074" b="0"/>
          <a:stretch/>
        </p:blipFill>
        <p:spPr>
          <a:xfrm>
            <a:off x="5286240" y="507204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5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гналы велосипед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игнал торможения подается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днятой вверх рукой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дача сигнала рукой должна производиться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заблаговременно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до начала выполнения маневра и может быть прекращена непосредственно перед выполнением маневр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Рисунок 4" descr="http://www.s-medved.com/user/image/pubs/ci001.gif"/>
          <p:cNvPicPr/>
          <p:nvPr/>
        </p:nvPicPr>
        <p:blipFill>
          <a:blip r:embed="rId1"/>
          <a:srcRect l="44082" t="0" r="39074" b="0"/>
          <a:stretch/>
        </p:blipFill>
        <p:spPr>
          <a:xfrm>
            <a:off x="7358040" y="1035000"/>
            <a:ext cx="1285920" cy="22510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http://www.s-medved.com/user/image/pubs/ci001.gif"/>
          <p:cNvPicPr/>
          <p:nvPr/>
        </p:nvPicPr>
        <p:blipFill>
          <a:blip r:embed="rId2"/>
          <a:srcRect l="32814" t="0" r="60170" b="0"/>
          <a:stretch/>
        </p:blipFill>
        <p:spPr>
          <a:xfrm>
            <a:off x="7000920" y="1428840"/>
            <a:ext cx="35712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5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680" y="42876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бязательным условием езды по улицам и дорогам является четкое знание велосипедистом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«Правил дорожного движения»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 строгое выполнение их требований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6" name="Рисунок 112" descr="http://www.igra-anekdot.ru/ris/velosiped/velosiped-0010.jpg"/>
          <p:cNvPicPr/>
          <p:nvPr/>
        </p:nvPicPr>
        <p:blipFill>
          <a:blip r:embed="rId1"/>
          <a:stretch/>
        </p:blipFill>
        <p:spPr>
          <a:xfrm>
            <a:off x="3143160" y="3429000"/>
            <a:ext cx="266724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Файл:Shorter 1980s bicyc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857240"/>
            <a:ext cx="7572600" cy="46069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1000080" y="214200"/>
            <a:ext cx="721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«Велосипед»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 — транспортное средство, кроме инвалидных колясок, имеющее два колеса или более и приводимое в движение мускульной силой людей, находящихся на нем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71360" y="357120"/>
            <a:ext cx="71434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елосипед – это тоже транспортное средство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Рисунок 79" descr="http://www.igra-anekdot.ru/ris/velosiped/velosiped-0012.jpg"/>
          <p:cNvPicPr/>
          <p:nvPr/>
        </p:nvPicPr>
        <p:blipFill>
          <a:blip r:embed="rId1"/>
          <a:stretch/>
        </p:blipFill>
        <p:spPr>
          <a:xfrm>
            <a:off x="285840" y="1857240"/>
            <a:ext cx="3403440" cy="26434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5" descr="http://www.igra-anekdot.ru/ris/velosiped/velosiped-0040.jpg"/>
          <p:cNvPicPr/>
          <p:nvPr/>
        </p:nvPicPr>
        <p:blipFill>
          <a:blip r:embed="rId2"/>
          <a:stretch/>
        </p:blipFill>
        <p:spPr>
          <a:xfrm>
            <a:off x="2786040" y="4000680"/>
            <a:ext cx="2890800" cy="2331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4" descr="http://www.igra-anekdot.ru/ris/velosiped/velosiped-0035.jpg"/>
          <p:cNvPicPr/>
          <p:nvPr/>
        </p:nvPicPr>
        <p:blipFill>
          <a:blip r:embed="rId3"/>
          <a:stretch/>
        </p:blipFill>
        <p:spPr>
          <a:xfrm>
            <a:off x="5046840" y="1643040"/>
            <a:ext cx="409716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00040" y="1643040"/>
            <a:ext cx="4471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еред выездом нужно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оверить техническое состояние транспортного средства, в особенности рулевого управления и тормозной системы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Рисунок 76" descr="title"/>
          <p:cNvPicPr/>
          <p:nvPr/>
        </p:nvPicPr>
        <p:blipFill>
          <a:blip r:embed="rId1"/>
          <a:stretch/>
        </p:blipFill>
        <p:spPr>
          <a:xfrm>
            <a:off x="5214960" y="1428840"/>
            <a:ext cx="3133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03" descr="http://www.igra-anekdot.ru/ris/velosiped/velosiped-0039.jpg"/>
          <p:cNvPicPr/>
          <p:nvPr/>
        </p:nvPicPr>
        <p:blipFill>
          <a:blip r:embed="rId1"/>
          <a:stretch/>
        </p:blipFill>
        <p:spPr>
          <a:xfrm>
            <a:off x="6072120" y="4572000"/>
            <a:ext cx="1743120" cy="1809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5480" y="1642680"/>
            <a:ext cx="8443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Движение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елосипеда должно осуществляться 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только 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 крайней правой полосе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не далее 1-ого метра от бордюра)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Рисунок 124" descr="http://www.igra-anekdot.ru/ris/velosiped/velosiped-0015.jpg"/>
          <p:cNvPicPr/>
          <p:nvPr/>
        </p:nvPicPr>
        <p:blipFill>
          <a:blip r:embed="rId2"/>
          <a:stretch/>
        </p:blipFill>
        <p:spPr>
          <a:xfrm>
            <a:off x="3786120" y="4357800"/>
            <a:ext cx="1666800" cy="18763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4"/>
          <p:cNvSpPr/>
          <p:nvPr/>
        </p:nvSpPr>
        <p:spPr>
          <a:xfrm flipV="1">
            <a:off x="2428920" y="5285880"/>
            <a:ext cx="166680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Прямая соединительная линия 5"/>
          <p:cNvSpPr/>
          <p:nvPr/>
        </p:nvSpPr>
        <p:spPr>
          <a:xfrm flipV="1">
            <a:off x="5143680" y="5285880"/>
            <a:ext cx="121428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Прямая соединительная линия 6"/>
          <p:cNvSpPr/>
          <p:nvPr/>
        </p:nvSpPr>
        <p:spPr>
          <a:xfrm flipV="1">
            <a:off x="1000080" y="6357960"/>
            <a:ext cx="150012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Прямая соединительная линия 7"/>
          <p:cNvSpPr/>
          <p:nvPr/>
        </p:nvSpPr>
        <p:spPr>
          <a:xfrm flipV="1">
            <a:off x="4214880" y="6357960"/>
            <a:ext cx="142884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Прямая соединительная линия 8"/>
          <p:cNvSpPr/>
          <p:nvPr/>
        </p:nvSpPr>
        <p:spPr>
          <a:xfrm flipV="1">
            <a:off x="7358040" y="6357960"/>
            <a:ext cx="135720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Прямая соединительная линия 9"/>
          <p:cNvSpPr/>
          <p:nvPr/>
        </p:nvSpPr>
        <p:spPr>
          <a:xfrm>
            <a:off x="7572240" y="5286240"/>
            <a:ext cx="95256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Прямая соединительная линия 10"/>
          <p:cNvSpPr/>
          <p:nvPr/>
        </p:nvSpPr>
        <p:spPr>
          <a:xfrm flipV="1">
            <a:off x="785880" y="5285880"/>
            <a:ext cx="166680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Прямая соединительная линия 11"/>
          <p:cNvSpPr/>
          <p:nvPr/>
        </p:nvSpPr>
        <p:spPr>
          <a:xfrm flipV="1">
            <a:off x="785880" y="5214960"/>
            <a:ext cx="166680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Прямая соединительная линия 12"/>
          <p:cNvSpPr/>
          <p:nvPr/>
        </p:nvSpPr>
        <p:spPr>
          <a:xfrm flipV="1">
            <a:off x="2428920" y="5214960"/>
            <a:ext cx="166680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Прямая соединительная линия 13"/>
          <p:cNvSpPr/>
          <p:nvPr/>
        </p:nvSpPr>
        <p:spPr>
          <a:xfrm flipV="1">
            <a:off x="5143680" y="5214960"/>
            <a:ext cx="150012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Прямая соединительная линия 14"/>
          <p:cNvSpPr/>
          <p:nvPr/>
        </p:nvSpPr>
        <p:spPr>
          <a:xfrm>
            <a:off x="7500960" y="5214960"/>
            <a:ext cx="100008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Прямая соединительная линия 20"/>
          <p:cNvSpPr/>
          <p:nvPr/>
        </p:nvSpPr>
        <p:spPr>
          <a:xfrm flipH="1" flipV="1">
            <a:off x="1213920" y="6143760"/>
            <a:ext cx="2714760" cy="1440"/>
          </a:xfrm>
          <a:prstGeom prst="line">
            <a:avLst/>
          </a:prstGeom>
          <a:ln w="9360">
            <a:solidFill>
              <a:srgbClr val="282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24" name="Прямая со стрелкой 25"/>
          <p:cNvCxnSpPr/>
          <p:nvPr/>
        </p:nvCxnSpPr>
        <p:spPr>
          <a:xfrm flipH="1">
            <a:off x="1999800" y="5785920"/>
            <a:ext cx="286560" cy="358200"/>
          </a:xfrm>
          <a:prstGeom prst="straightConnector1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</p:cxnSp>
      <p:cxnSp>
        <p:nvCxnSpPr>
          <p:cNvPr id="125" name="Прямая со стрелкой 41"/>
          <p:cNvCxnSpPr/>
          <p:nvPr/>
        </p:nvCxnSpPr>
        <p:spPr>
          <a:xfrm flipV="1">
            <a:off x="2356200" y="5285520"/>
            <a:ext cx="358200" cy="429480"/>
          </a:xfrm>
          <a:prstGeom prst="straightConnector1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</p:cxnSp>
      <p:sp>
        <p:nvSpPr>
          <p:cNvPr id="126" name="Прямоугольник 47"/>
          <p:cNvSpPr/>
          <p:nvPr/>
        </p:nvSpPr>
        <p:spPr>
          <a:xfrm>
            <a:off x="1147680" y="55008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метр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Рисунок 50" descr="Картинка 4 из 330050"/>
          <p:cNvPicPr/>
          <p:nvPr/>
        </p:nvPicPr>
        <p:blipFill>
          <a:blip r:embed="rId3"/>
          <a:stretch/>
        </p:blipFill>
        <p:spPr>
          <a:xfrm>
            <a:off x="7000920" y="3143160"/>
            <a:ext cx="1495440" cy="1952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2" descr="Картинка 4 из 330050"/>
          <p:cNvPicPr/>
          <p:nvPr/>
        </p:nvPicPr>
        <p:blipFill>
          <a:blip r:embed="rId4"/>
          <a:stretch/>
        </p:blipFill>
        <p:spPr>
          <a:xfrm>
            <a:off x="3000240" y="3714840"/>
            <a:ext cx="857520" cy="13809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ая соединительная линия 59"/>
          <p:cNvSpPr/>
          <p:nvPr/>
        </p:nvSpPr>
        <p:spPr>
          <a:xfrm>
            <a:off x="4071960" y="5214960"/>
            <a:ext cx="64296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Прямая соединительная линия 61"/>
          <p:cNvSpPr/>
          <p:nvPr/>
        </p:nvSpPr>
        <p:spPr>
          <a:xfrm>
            <a:off x="6929280" y="5214960"/>
            <a:ext cx="142920" cy="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Прямая соединительная линия 63"/>
          <p:cNvSpPr/>
          <p:nvPr/>
        </p:nvSpPr>
        <p:spPr>
          <a:xfrm>
            <a:off x="7000920" y="5286240"/>
            <a:ext cx="71280" cy="1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58" descr="title"/>
          <p:cNvPicPr/>
          <p:nvPr/>
        </p:nvPicPr>
        <p:blipFill>
          <a:blip r:embed="rId1"/>
          <a:stretch/>
        </p:blipFill>
        <p:spPr>
          <a:xfrm>
            <a:off x="3071880" y="4286160"/>
            <a:ext cx="2643120" cy="20718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30" descr="http://www.igra-anekdot.ru/ris/velosiped/velosiped-0037.jpg"/>
          <p:cNvPicPr/>
          <p:nvPr/>
        </p:nvPicPr>
        <p:blipFill>
          <a:blip r:embed="rId2"/>
          <a:stretch/>
        </p:blipFill>
        <p:spPr>
          <a:xfrm>
            <a:off x="857160" y="4214880"/>
            <a:ext cx="1648080" cy="2162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42560" y="213840"/>
            <a:ext cx="87152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рещается: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Ездить, если неисправна тормозная система или рулевое управление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еревозить   груз,   выступающий   за    габариты велосипеда, мешающий управлению, более чем на 0,5 м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Ездить, не держась за руль хотя бы одной рукой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Рисунок 109" descr="http://www.igra-anekdot.ru/ris/velosiped/velosiped-0033.jpg"/>
          <p:cNvPicPr/>
          <p:nvPr/>
        </p:nvPicPr>
        <p:blipFill>
          <a:blip r:embed="rId3"/>
          <a:stretch/>
        </p:blipFill>
        <p:spPr>
          <a:xfrm>
            <a:off x="6286680" y="4286160"/>
            <a:ext cx="2286000" cy="21481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7"/>
          <p:cNvSpPr/>
          <p:nvPr/>
        </p:nvSpPr>
        <p:spPr>
          <a:xfrm>
            <a:off x="785880" y="4143240"/>
            <a:ext cx="1643040" cy="221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Прямая соединительная линия 9"/>
          <p:cNvSpPr/>
          <p:nvPr/>
        </p:nvSpPr>
        <p:spPr>
          <a:xfrm flipH="1">
            <a:off x="714240" y="4214880"/>
            <a:ext cx="164304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Прямая соединительная линия 11"/>
          <p:cNvSpPr/>
          <p:nvPr/>
        </p:nvSpPr>
        <p:spPr>
          <a:xfrm>
            <a:off x="3071880" y="4214880"/>
            <a:ext cx="235728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H="1">
            <a:off x="3214800" y="4285440"/>
            <a:ext cx="228600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Прямая соединительная линия 18"/>
          <p:cNvSpPr/>
          <p:nvPr/>
        </p:nvSpPr>
        <p:spPr>
          <a:xfrm>
            <a:off x="6143760" y="428616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Прямая соединительная линия 20"/>
          <p:cNvSpPr/>
          <p:nvPr/>
        </p:nvSpPr>
        <p:spPr>
          <a:xfrm flipH="1">
            <a:off x="6143760" y="428544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28760" y="1571760"/>
            <a:ext cx="84009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</a:t>
            </a: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еревозить детей на велосипеде разрешено: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если ребёнку меньше 7 лет;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 случае наличия дополнительного специального сиденья, оборудованного надёжными подножками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3" name="Рисунок 121" descr="http://www.igra-anekdot.ru/ris/velosiped/velosiped-0038.jpg"/>
          <p:cNvPicPr/>
          <p:nvPr/>
        </p:nvPicPr>
        <p:blipFill>
          <a:blip r:embed="rId1"/>
          <a:stretch/>
        </p:blipFill>
        <p:spPr>
          <a:xfrm>
            <a:off x="5786280" y="385776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39" descr="http://www.igra-anekdot.ru/ris/velosiped/velosiped-0025.jpg"/>
          <p:cNvPicPr/>
          <p:nvPr/>
        </p:nvPicPr>
        <p:blipFill>
          <a:blip r:embed="rId2"/>
          <a:stretch/>
        </p:blipFill>
        <p:spPr>
          <a:xfrm>
            <a:off x="928800" y="3929040"/>
            <a:ext cx="305280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97" descr="http://www.igra-anekdot.ru/ris/velosiped/velosiped-0028.jpg"/>
          <p:cNvPicPr/>
          <p:nvPr/>
        </p:nvPicPr>
        <p:blipFill>
          <a:blip r:embed="rId1"/>
          <a:srcRect l="41503" t="88530" r="0" b="0"/>
          <a:stretch/>
        </p:blipFill>
        <p:spPr>
          <a:xfrm>
            <a:off x="6357960" y="6357960"/>
            <a:ext cx="1409760" cy="214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85480" y="1643040"/>
            <a:ext cx="86439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Запрещается буксировка велосипеда, за исключением буксировкой прицепом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Запрещается поворачивать налево или разворачиваться на дорогах с трамвайным движением и на дорогах, имеющих более одной полосы для движения в данном направлении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Запрещается ехать по основной дороге, если рядом есть велосипедная дорожка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7" name="Рисунок 97" descr="http://www.igra-anekdot.ru/ris/velosiped/velosiped-0028.jpg"/>
          <p:cNvPicPr/>
          <p:nvPr/>
        </p:nvPicPr>
        <p:blipFill>
          <a:blip r:embed="rId2"/>
          <a:stretch/>
        </p:blipFill>
        <p:spPr>
          <a:xfrm>
            <a:off x="3571920" y="5072040"/>
            <a:ext cx="2409840" cy="153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www.roadsigns.ru/sch/default/Files/road_signs/predpisivaychie_011_big.gif"/>
          <p:cNvPicPr/>
          <p:nvPr/>
        </p:nvPicPr>
        <p:blipFill>
          <a:blip r:embed="rId3"/>
          <a:stretch/>
        </p:blipFill>
        <p:spPr>
          <a:xfrm>
            <a:off x="2357280" y="492912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97" descr="http://www.igra-anekdot.ru/ris/velosiped/velosiped-0028.jpg"/>
          <p:cNvPicPr/>
          <p:nvPr/>
        </p:nvPicPr>
        <p:blipFill>
          <a:blip r:embed="rId4"/>
          <a:srcRect l="41503" t="88530" r="0" b="0"/>
          <a:stretch/>
        </p:blipFill>
        <p:spPr>
          <a:xfrm>
            <a:off x="1785960" y="6357960"/>
            <a:ext cx="1409760" cy="1760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ая соединительная линия 8"/>
          <p:cNvSpPr/>
          <p:nvPr/>
        </p:nvSpPr>
        <p:spPr>
          <a:xfrm flipH="1">
            <a:off x="2641680" y="5500800"/>
            <a:ext cx="1440" cy="9302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1" name="Рисунок 127" descr="http://www.igra-anekdot.ru/ris/velosiped/velosiped-0032.jpg"/>
          <p:cNvPicPr/>
          <p:nvPr/>
        </p:nvPicPr>
        <p:blipFill>
          <a:blip r:embed="rId5"/>
          <a:stretch/>
        </p:blipFill>
        <p:spPr>
          <a:xfrm>
            <a:off x="6643800" y="5072040"/>
            <a:ext cx="1000080" cy="13860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9"/>
          <p:cNvSpPr/>
          <p:nvPr/>
        </p:nvSpPr>
        <p:spPr>
          <a:xfrm>
            <a:off x="1928880" y="50004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рещается: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71468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едписание, касающееся велосипедных групп,  гласит: колонны велосипедистов при движении по проезжей части должны быть разделены на группы по 10 велосипе-дистов. Расстояние между группами должно составлять 80-100 метров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Рисунок 100" descr="http://www.igra-anekdot.ru/ris/velosiped/velosiped-0022.jpg"/>
          <p:cNvPicPr/>
          <p:nvPr/>
        </p:nvPicPr>
        <p:blipFill>
          <a:blip r:embed="rId1"/>
          <a:stretch/>
        </p:blipFill>
        <p:spPr>
          <a:xfrm>
            <a:off x="142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00" descr="http://www.igra-anekdot.ru/ris/velosiped/velosiped-0022.jpg"/>
          <p:cNvPicPr/>
          <p:nvPr/>
        </p:nvPicPr>
        <p:blipFill>
          <a:blip r:embed="rId2"/>
          <a:stretch/>
        </p:blipFill>
        <p:spPr>
          <a:xfrm>
            <a:off x="100008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0" descr="http://www.igra-anekdot.ru/ris/velosiped/velosiped-0022.jpg"/>
          <p:cNvPicPr/>
          <p:nvPr/>
        </p:nvPicPr>
        <p:blipFill>
          <a:blip r:embed="rId3"/>
          <a:stretch/>
        </p:blipFill>
        <p:spPr>
          <a:xfrm>
            <a:off x="1857240" y="4214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0" descr="http://www.igra-anekdot.ru/ris/velosiped/velosiped-0022.jpg"/>
          <p:cNvPicPr/>
          <p:nvPr/>
        </p:nvPicPr>
        <p:blipFill>
          <a:blip r:embed="rId4"/>
          <a:stretch/>
        </p:blipFill>
        <p:spPr>
          <a:xfrm>
            <a:off x="271476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0" descr="http://www.igra-anekdot.ru/ris/velosiped/velosiped-0022.jpg"/>
          <p:cNvPicPr/>
          <p:nvPr/>
        </p:nvPicPr>
        <p:blipFill>
          <a:blip r:embed="rId5"/>
          <a:stretch/>
        </p:blipFill>
        <p:spPr>
          <a:xfrm>
            <a:off x="3571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00" descr="http://www.igra-anekdot.ru/ris/velosiped/velosiped-0022.jpg"/>
          <p:cNvPicPr/>
          <p:nvPr/>
        </p:nvPicPr>
        <p:blipFill>
          <a:blip r:embed="rId6"/>
          <a:stretch/>
        </p:blipFill>
        <p:spPr>
          <a:xfrm>
            <a:off x="442908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00" descr="http://www.igra-anekdot.ru/ris/velosiped/velosiped-0022.jpg"/>
          <p:cNvPicPr/>
          <p:nvPr/>
        </p:nvPicPr>
        <p:blipFill>
          <a:blip r:embed="rId7"/>
          <a:stretch/>
        </p:blipFill>
        <p:spPr>
          <a:xfrm>
            <a:off x="5286240" y="4214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00" descr="http://www.igra-anekdot.ru/ris/velosiped/velosiped-0022.jpg"/>
          <p:cNvPicPr/>
          <p:nvPr/>
        </p:nvPicPr>
        <p:blipFill>
          <a:blip r:embed="rId8"/>
          <a:stretch/>
        </p:blipFill>
        <p:spPr>
          <a:xfrm>
            <a:off x="614376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00" descr="http://www.igra-anekdot.ru/ris/velosiped/velosiped-0022.jpg"/>
          <p:cNvPicPr/>
          <p:nvPr/>
        </p:nvPicPr>
        <p:blipFill>
          <a:blip r:embed="rId9"/>
          <a:stretch/>
        </p:blipFill>
        <p:spPr>
          <a:xfrm>
            <a:off x="7000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00" descr="http://www.igra-anekdot.ru/ris/velosiped/velosiped-0022.jpg"/>
          <p:cNvPicPr/>
          <p:nvPr/>
        </p:nvPicPr>
        <p:blipFill>
          <a:blip r:embed="rId10"/>
          <a:stretch/>
        </p:blipFill>
        <p:spPr>
          <a:xfrm>
            <a:off x="7858080" y="421488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Левая фигурная скобка 20"/>
          <p:cNvSpPr/>
          <p:nvPr/>
        </p:nvSpPr>
        <p:spPr>
          <a:xfrm rot="16200000">
            <a:off x="4357440" y="1428480"/>
            <a:ext cx="285840" cy="85726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8572680"/>
              <a:gd name="textAreaBottom" fmla="*/ 8565480 h 857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"/>
                  <a:pt x="10800" y="60"/>
                </a:cubicBezTo>
                <a:lnTo>
                  <a:pt x="10800" y="10717"/>
                </a:lnTo>
                <a:cubicBezTo>
                  <a:pt x="10800" y="10747"/>
                  <a:pt x="5400" y="10777"/>
                  <a:pt x="0" y="10777"/>
                </a:cubicBezTo>
                <a:cubicBezTo>
                  <a:pt x="5400" y="10777"/>
                  <a:pt x="10800" y="10807"/>
                  <a:pt x="10800" y="10837"/>
                </a:cubicBezTo>
                <a:lnTo>
                  <a:pt x="10800" y="21540"/>
                </a:lnTo>
                <a:cubicBezTo>
                  <a:pt x="10800" y="2157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99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Прямоугольник 21"/>
          <p:cNvSpPr/>
          <p:nvPr/>
        </p:nvSpPr>
        <p:spPr>
          <a:xfrm>
            <a:off x="2656800" y="600084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10 велосипедистов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500"/>
                            </p:stCondLst>
                            <p:childTnLst>
                              <p:par>
                                <p:cTn id="2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ната</cp:lastModifiedBy>
  <dcterms:modified xsi:type="dcterms:W3CDTF">2015-04-07T17:31:01Z</dcterms:modified>
  <cp:revision>33</cp:revision>
  <dc:subject/>
  <dc:title>ОСНОВНЫЕ ПОНЯТИЯ И ТЕРМИНЫ, используемые в правилах дорожного движения</dc:title>
</cp:coreProperties>
</file>